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22D9-EEC6-4520-89E3-786800329CB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E450-B387-4964-856A-8805928490D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EF21-D003-469A-849D-E265102597A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80C6-B02E-4919-B1AC-E248F879D63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0004-EE35-4844-91F7-4D5C4DDC9B4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028-F5B2-44E7-A16D-7025E1682AA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8B9-4836-4661-8B08-B87740531CA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C44E-D92C-431B-A056-E30E48FEC8A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BCBF-EA37-4EEF-95A9-571FF7108C6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F26-BFD5-4CA1-874E-5637E234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477-1342-40EE-8FFB-38105B9C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F30-145B-46CD-BB5F-1D470DE1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1BB-B030-4B2D-87F5-61812AF3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E82-789B-46BF-A1C1-C8489690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1B1-BCE9-408C-AB33-DF81401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227-A811-4A5C-891D-7DEDC7E4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CC6-35E1-4492-ACB7-1BAD6A3D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E4B-1BC8-44F6-8584-87B6007E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45D-BF7E-4E0C-9F0D-7DDD21A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580-3DD1-4E9C-BAA2-3683210F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42D-2754-45CA-A600-15916BB7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4CB-4312-4822-B147-38B89A76F807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6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348000" y="4568760"/>
            <a:ext cx="17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Presentation 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190600" y="490680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Erika Gates-Gasse, OCA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500720" y="6437160"/>
            <a:ext cx="2635200" cy="376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390760" y="5967360"/>
            <a:ext cx="1650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wi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anizational Standar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46720" y="6093000"/>
            <a:ext cx="9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Calibri"/>
                <a:ea typeface="Arial"/>
              </a:rPr>
              <a:t>Funded by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15920" y="189000"/>
            <a:ext cx="7772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ffffff"/>
                </a:solidFill>
                <a:latin typeface="Trebuchet MS"/>
              </a:rPr>
              <a:t>Contex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7209000" y="6308640"/>
            <a:ext cx="1108080" cy="5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8354880" y="6024600"/>
            <a:ext cx="690840" cy="765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15920" y="966960"/>
            <a:ext cx="88488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2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creation of the Citizenship and Immigration Canada Francophone Minority Communities Steering Committee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November 2003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Framework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outlined 5 objectiv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5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publishes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Towards Building a Canadian Francophonie of Tomorrow: Summary of Initiatives 2002-2006 to Foster Immigration to Francophone Minority Communiti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September 2006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is a five year plan to better coordinate the efforts to achieve the five objectives set out in the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 Framework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arget: By 2008, 4.4% of newcomers outside of Quebec should be French-speaking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estimated it would take 15 years to reach the annual target of 8,000 to 10,000 French speaking immigrants to Francophone Minority Communities (FMC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549360"/>
            <a:ext cx="842472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Between 2003 and 2011, approximately 40% of French-speaking newcomers came from the sub-Saharan African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utside of Quebec, Ontario has the greatest number of French-speaking people. New Brunswick has some 236,100 Francophones (33% of the its population). Ontario has 2x this number, with a population of 578,045 Francophones (~4.8% of total popula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ccording to the 2006 Census, immigrants represent approximately 20% of the total population of Canada and 28% of the population of Ontario; 2.8% of immigrants in Ontario are French-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Francophone immigration is largely an urban phenomenon in Ontario. In 2006, 92% of Francophone immigrants lived in Toronto (33.1%), in Ottawa (24.3%) or in southern Ontario. Approximately 20% live in Peel and York. Hamilton, Halton, Essex, Waterloo, Middlesex, Durham, and Niagara account for approximately 15% of Francophone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fugees an important source of French-speaking newcomers (22% vs 11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The number and make-up of French-speaking immigrants to FMC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rench-speaking immigrant” definition changed to specify those whose first official language is Fren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2.     Immigrant mobil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No data available on the mobility rate of French-speaking immigrants within Ca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3.     Integration difficulties for immigra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     FMCs’ lack of capacity to recruit, receive and integrate French-speaking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Strategic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Better integration of immigrants &amp; refugees already settled in FMC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rench-speaking immigrants and refugees from Africa and Ha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Recruitment of new immigran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conomic class immigrants and international students, refug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Integration, retention and settlement of new French-speaking immigrants in FM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cused approach (targeted funding to specific FMCs with demonstrated capacit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stering the employability of workers trained abroad (focus on health &amp; educ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nsuring a functional methodology for teaching both official languages and an effective method for delivery (67% don’t use French at work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62028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Coordination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Local &amp; provincial: Réseaux en immigration francophone (Ottawa, Hamilton and Sudbur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National: Francophone Minority Communities Steering Committee, Implementation Committ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Priorities for 2006-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and supporting local network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ncreasing awareness of the local community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language training in English and/or Fren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viding training to upgrade professional and employability skill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Implement 3 major pilot projects over 5 years in at least 2 fields (education and healt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Resear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the creation of micro-businesse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French-language post-secondary institutions in the recruitment and integration of international stude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Proposal to support the initiatives of 10 post-secondary instit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moting immigration and selecting potential immigra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refuge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rebuchet MS"/>
              </a:rPr>
              <a:t>Ontario Immigra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ugust 2011: Final Report: Research on Settlement Services Available in French for Francophone Newcomers to Ont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Francophone immigration to Ontario is increasing. They represent 2.8% of Ontario's total immigrant population. New Francophone immigrants who arrived between 2001 and 2006 represent 3.8% of Ontario's recent immigrants (2001-2006). Since 2000, 3,500 to 4,000 Francophones have immigrated to Ontario each ye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abour-market integration and language classes identified by participants as major barrie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November 2012: Launch of Ontario’s Immigr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arget: achieve 5% Francophone im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xpert Roundtable recommends using the Provincial Nominee Program to achieve this tar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IC Evaluation of th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052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July 2012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Evaluation of the Recruitment and Integration of French Speaking Immigrants to Francophone Minority Communities Initiative, 2008-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4% objective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IC set a short and long term objective: 1.8% by 2013, 4.4% by 2023.  According to their numbers, 1.8% achieved in 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Network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 stability of funding, national vs regional vi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Services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increase in number of services provided in French (but stats are for agencies that have served at least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French-speaking newcom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significant new research created, but still an under-researched are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cruitment barrier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immigrant selection process can be a significant barrier. Destination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egates-gasse</cp:lastModifiedBy>
  <dcterms:modified xsi:type="dcterms:W3CDTF">2013-09-26T16:15:23Z</dcterms:modified>
  <cp:revision>40</cp:revision>
  <dc:subject/>
  <dc:title>PowerPoint Presentation</dc:title>
</cp:coreProperties>
</file>